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884760" y="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0" y="867888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DF1FC-18ED-4548-9A32-DD6DD661DE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E5FCF-D7EF-4B98-B222-7369DFF064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3BE3F-3C75-4335-849F-3C3C1517CA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40B35-885B-4AD6-8458-C8D39118F7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8298E-E82A-4971-8234-B43BC952A3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DA0CB-0E84-4496-8E29-C1E73B058B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FF0D1-932F-47F0-A5F7-1506A85027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FEA98-81A0-4C31-9782-479F3C1593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A8539-AA3A-44CF-A286-B2B04311B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11563-85CB-4AE5-B7E5-E8BEA33365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D9BA1-5B96-4285-8CCC-42E8E2376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42E72-2D39-408C-852D-E85AB15AF7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00E0E-5FFA-467E-B882-9E47F44CF1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0716A-D277-4DA3-A9F3-01D995A869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6F134-9CF4-4794-83E1-3F119CADCF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E311D-A6FA-42C2-B0FD-29F5A98FEF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C7EE0-27E9-477A-A27B-07D8E4DB05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97A9C-F7F1-44C7-B2EE-7A3973B77C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71420-CD5B-4770-87E6-3AE764B823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72353-3737-4A9F-955D-147BC5ADD7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2DC43-B004-4FC2-A234-287E436980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E1672-4975-45B2-A667-A8C931E736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3F7F5-799F-47A1-BF23-A1B2B9782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D8215-C759-4A91-A7B3-B4FF02E928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B4A8E-9D06-4FBF-AE82-422F6458CA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AAAB4-A787-4294-8100-5B38C295BC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0E77A-BDD8-49D1-888D-6704355088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AB79F-FCFB-40AF-BFB7-B8AD1640C9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5D6FE-AAC5-47AD-BC96-7FF64DE91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73BE-816C-43A7-A5E6-E90B05B6F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F6A6-6C64-40A4-85AA-7E1799BA2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0AA8-2E68-4255-A4E3-AB67F2FD6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55E5-C6AE-412C-9EEB-8023BBC88F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E491-48B9-4570-8CE8-C93E7D5517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5E24-2C22-42D6-9F83-FCB90C8D7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37DE-2484-4F83-9E29-9A84C0FAD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4959-BD41-459A-8AC9-E3D79F612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84360" y="250920"/>
            <a:ext cx="619128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C367-A92F-4CAA-835A-C6B0C3B4A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5C06-3D35-4029-973A-D136C61E2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B224-F95E-41E9-B463-04C3147B8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C893-4C57-4B61-8AF7-5E3549837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D42CA4-A267-4FA2-9A56-0B698DE172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1357200" y="714240"/>
            <a:ext cx="808200" cy="571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rcRect l="0" t="0" r="68866" b="0"/>
          <a:stretch/>
        </p:blipFill>
        <p:spPr>
          <a:xfrm>
            <a:off x="142920" y="189000"/>
            <a:ext cx="1368360" cy="3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Object 8"/>
          <p:cNvGraphicFramePr/>
          <p:nvPr/>
        </p:nvGraphicFramePr>
        <p:xfrm>
          <a:off x="285840" y="638280"/>
          <a:ext cx="714240" cy="71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5840" y="638280"/>
                    <a:ext cx="7142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Picture 9" descr=""/>
          <p:cNvPicPr/>
          <p:nvPr/>
        </p:nvPicPr>
        <p:blipFill>
          <a:blip r:embed="rId6"/>
          <a:stretch/>
        </p:blipFill>
        <p:spPr>
          <a:xfrm>
            <a:off x="1428840" y="88920"/>
            <a:ext cx="89064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1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8E24D-767D-4505-8212-CAAA04A3D2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87240" y="1916280"/>
            <a:ext cx="7772400" cy="197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evelopment of tools for the analysis and visualisation of second generation sequencing data for </a:t>
            </a:r>
            <a:r>
              <a:rPr b="1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122560" y="4456080"/>
            <a:ext cx="49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is Du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versity of Queensland,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.Duran@uq.edu.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48992-2FCF-4324-A207-29DD09A9D3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gD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-based tool for short read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hort reads stored 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ser uploads query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flora.acpfg.com.au/tag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sualising read pairs for comparative geno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357120" y="4714920"/>
            <a:ext cx="8501040" cy="28584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508200" y="5016600"/>
            <a:ext cx="320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omic sequ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Straight Arrow Connector 29"/>
          <p:cNvCxnSpPr/>
          <p:nvPr/>
        </p:nvCxnSpPr>
        <p:spPr>
          <a:xfrm>
            <a:off x="571320" y="3357720"/>
            <a:ext cx="28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Straight Arrow Connector 33"/>
          <p:cNvCxnSpPr/>
          <p:nvPr/>
        </p:nvCxnSpPr>
        <p:spPr>
          <a:xfrm>
            <a:off x="2571840" y="335772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19" name="Straight Connector 39"/>
          <p:cNvSpPr/>
          <p:nvPr/>
        </p:nvSpPr>
        <p:spPr>
          <a:xfrm>
            <a:off x="857160" y="3357720"/>
            <a:ext cx="17146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643040" y="31431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144880" y="302436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traight Connector 43"/>
          <p:cNvSpPr/>
          <p:nvPr/>
        </p:nvSpPr>
        <p:spPr>
          <a:xfrm flipH="1">
            <a:off x="1712520" y="3430440"/>
            <a:ext cx="1800" cy="1285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44"/>
          <p:cNvSpPr/>
          <p:nvPr/>
        </p:nvSpPr>
        <p:spPr>
          <a:xfrm>
            <a:off x="1787760" y="392904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Straight Arrow Connector 45"/>
          <p:cNvCxnSpPr/>
          <p:nvPr/>
        </p:nvCxnSpPr>
        <p:spPr>
          <a:xfrm>
            <a:off x="4286160" y="2712600"/>
            <a:ext cx="286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Straight Arrow Connector 46"/>
          <p:cNvCxnSpPr/>
          <p:nvPr/>
        </p:nvCxnSpPr>
        <p:spPr>
          <a:xfrm>
            <a:off x="6929280" y="2712600"/>
            <a:ext cx="286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26" name="Straight Connector 47"/>
          <p:cNvSpPr/>
          <p:nvPr/>
        </p:nvSpPr>
        <p:spPr>
          <a:xfrm>
            <a:off x="4572000" y="2712960"/>
            <a:ext cx="2357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8"/>
          <p:cNvSpPr/>
          <p:nvPr/>
        </p:nvSpPr>
        <p:spPr>
          <a:xfrm>
            <a:off x="5716440" y="25002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9"/>
          <p:cNvSpPr/>
          <p:nvPr/>
        </p:nvSpPr>
        <p:spPr>
          <a:xfrm>
            <a:off x="6218640" y="238140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traight Connector 50"/>
          <p:cNvSpPr/>
          <p:nvPr/>
        </p:nvSpPr>
        <p:spPr>
          <a:xfrm>
            <a:off x="5786280" y="2786040"/>
            <a:ext cx="0" cy="1930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51"/>
          <p:cNvSpPr/>
          <p:nvPr/>
        </p:nvSpPr>
        <p:spPr>
          <a:xfrm>
            <a:off x="5861520" y="352440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07CCA-2D2E-4B88-8647-D79446AE9E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rcRect l="0" t="28129" r="2111" b="9997"/>
          <a:stretch/>
        </p:blipFill>
        <p:spPr>
          <a:xfrm>
            <a:off x="0" y="2286000"/>
            <a:ext cx="8750160" cy="228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rcRect l="3410" t="21878" r="2274" b="10625"/>
          <a:stretch/>
        </p:blipFill>
        <p:spPr>
          <a:xfrm>
            <a:off x="0" y="0"/>
            <a:ext cx="8966160" cy="2652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rcRect l="6821" t="22814" r="0" b="11565"/>
          <a:stretch/>
        </p:blipFill>
        <p:spPr>
          <a:xfrm>
            <a:off x="0" y="4565520"/>
            <a:ext cx="8858160" cy="2221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9000" y="1738440"/>
            <a:ext cx="156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rapa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Chiif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9000" y="3643200"/>
            <a:ext cx="133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olerac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7200" y="5952960"/>
            <a:ext cx="96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nig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74C72-ABFD-42CF-ACF6-CECA15520A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ome anno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185760" y="1773360"/>
            <a:ext cx="8467560" cy="1559160"/>
            <a:chOff x="185760" y="1773360"/>
            <a:chExt cx="8467560" cy="1559160"/>
          </a:xfrm>
        </p:grpSpPr>
        <p:pic>
          <p:nvPicPr>
            <p:cNvPr id="142" name="Picture 4" descr=""/>
            <p:cNvPicPr/>
            <p:nvPr/>
          </p:nvPicPr>
          <p:blipFill>
            <a:blip r:embed="rId1">
              <a:lum contrast="20000"/>
            </a:blip>
            <a:srcRect l="6457" t="12926" r="37767" b="17386"/>
            <a:stretch/>
          </p:blipFill>
          <p:spPr>
            <a:xfrm>
              <a:off x="714240" y="1924200"/>
              <a:ext cx="76298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Line 5"/>
            <p:cNvSpPr/>
            <p:nvPr/>
          </p:nvSpPr>
          <p:spPr>
            <a:xfrm>
              <a:off x="8348760" y="1973160"/>
              <a:ext cx="1440" cy="974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392400" y="2478240"/>
              <a:ext cx="3909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333000" y="2182680"/>
              <a:ext cx="4611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329760" y="1876320"/>
              <a:ext cx="4611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9"/>
            <p:cNvSpPr/>
            <p:nvPr/>
          </p:nvSpPr>
          <p:spPr>
            <a:xfrm>
              <a:off x="1076400" y="291456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159408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291816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3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425484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3"/>
            <p:cNvSpPr/>
            <p:nvPr/>
          </p:nvSpPr>
          <p:spPr>
            <a:xfrm>
              <a:off x="559764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7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4"/>
            <p:cNvSpPr/>
            <p:nvPr/>
          </p:nvSpPr>
          <p:spPr>
            <a:xfrm>
              <a:off x="693108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9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5"/>
            <p:cNvSpPr/>
            <p:nvPr/>
          </p:nvSpPr>
          <p:spPr>
            <a:xfrm>
              <a:off x="8016840" y="2914560"/>
              <a:ext cx="6364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7,00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6"/>
            <p:cNvSpPr/>
            <p:nvPr/>
          </p:nvSpPr>
          <p:spPr>
            <a:xfrm>
              <a:off x="4224600" y="3111480"/>
              <a:ext cx="106164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8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Base pair (bp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 rot="16200000">
              <a:off x="-420840" y="2380320"/>
              <a:ext cx="143496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8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No. of aligned rea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552600" y="278460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468360" y="5734080"/>
            <a:ext cx="824544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High-covered regions of short reads and their corresponding annotation in a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B. rapa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 BA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20"/>
          <p:cNvGrpSpPr/>
          <p:nvPr/>
        </p:nvGrpSpPr>
        <p:grpSpPr>
          <a:xfrm>
            <a:off x="540720" y="3499200"/>
            <a:ext cx="7817400" cy="1117440"/>
            <a:chOff x="540720" y="3499200"/>
            <a:chExt cx="7817400" cy="1117440"/>
          </a:xfrm>
        </p:grpSpPr>
        <p:sp>
          <p:nvSpPr>
            <p:cNvPr id="159" name="Rectangle 21"/>
            <p:cNvSpPr/>
            <p:nvPr/>
          </p:nvSpPr>
          <p:spPr>
            <a:xfrm>
              <a:off x="2440080" y="3499200"/>
              <a:ext cx="90468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TIR-NBS-LR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1231920" y="3960720"/>
              <a:ext cx="71262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1851120" y="3817800"/>
              <a:ext cx="3636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24"/>
            <p:cNvSpPr/>
            <p:nvPr/>
          </p:nvSpPr>
          <p:spPr>
            <a:xfrm>
              <a:off x="1917720" y="3817800"/>
              <a:ext cx="3636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25"/>
            <p:cNvSpPr/>
            <p:nvPr/>
          </p:nvSpPr>
          <p:spPr>
            <a:xfrm>
              <a:off x="1748520" y="3628800"/>
              <a:ext cx="32076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l-GR" sz="1000" spc="-1" strike="noStrike">
                  <a:solidFill>
                    <a:srgbClr val="000000"/>
                  </a:solidFill>
                  <a:latin typeface="Times New Roman"/>
                </a:rPr>
                <a:t>α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26"/>
            <p:cNvSpPr/>
            <p:nvPr/>
          </p:nvSpPr>
          <p:spPr>
            <a:xfrm>
              <a:off x="1816200" y="3625920"/>
              <a:ext cx="183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27"/>
            <p:cNvSpPr/>
            <p:nvPr/>
          </p:nvSpPr>
          <p:spPr>
            <a:xfrm>
              <a:off x="2352600" y="3825720"/>
              <a:ext cx="3672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8"/>
            <p:cNvSpPr/>
            <p:nvPr/>
          </p:nvSpPr>
          <p:spPr>
            <a:xfrm>
              <a:off x="2249640" y="362664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l-GR" sz="10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>
              <a:off x="1994040" y="3892680"/>
              <a:ext cx="36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30"/>
            <p:cNvSpPr/>
            <p:nvPr/>
          </p:nvSpPr>
          <p:spPr>
            <a:xfrm rot="10800000">
              <a:off x="2778120" y="3689280"/>
              <a:ext cx="71280" cy="287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AutoShape 31"/>
            <p:cNvSpPr/>
            <p:nvPr/>
          </p:nvSpPr>
          <p:spPr>
            <a:xfrm>
              <a:off x="3341520" y="3824280"/>
              <a:ext cx="493920" cy="287280"/>
            </a:xfrm>
            <a:prstGeom prst="flowChartPredefinedProcess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32"/>
            <p:cNvSpPr/>
            <p:nvPr/>
          </p:nvSpPr>
          <p:spPr>
            <a:xfrm>
              <a:off x="4592520" y="3827520"/>
              <a:ext cx="493920" cy="287280"/>
            </a:xfrm>
            <a:prstGeom prst="flowChartPredefinedProcess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33"/>
            <p:cNvSpPr/>
            <p:nvPr/>
          </p:nvSpPr>
          <p:spPr>
            <a:xfrm rot="16200000">
              <a:off x="4564800" y="3925080"/>
              <a:ext cx="287280" cy="1080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34"/>
            <p:cNvSpPr/>
            <p:nvPr/>
          </p:nvSpPr>
          <p:spPr>
            <a:xfrm rot="5400000">
              <a:off x="4839480" y="3917160"/>
              <a:ext cx="287280" cy="1080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35"/>
            <p:cNvSpPr/>
            <p:nvPr/>
          </p:nvSpPr>
          <p:spPr>
            <a:xfrm>
              <a:off x="5234040" y="3894120"/>
              <a:ext cx="36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36"/>
            <p:cNvSpPr/>
            <p:nvPr/>
          </p:nvSpPr>
          <p:spPr>
            <a:xfrm>
              <a:off x="7632720" y="3817800"/>
              <a:ext cx="144360" cy="287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37"/>
            <p:cNvSpPr/>
            <p:nvPr/>
          </p:nvSpPr>
          <p:spPr>
            <a:xfrm rot="5400000">
              <a:off x="7583040" y="3879720"/>
              <a:ext cx="287280" cy="14436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38"/>
            <p:cNvSpPr/>
            <p:nvPr/>
          </p:nvSpPr>
          <p:spPr>
            <a:xfrm>
              <a:off x="3316680" y="4124520"/>
              <a:ext cx="5036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MuD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39"/>
            <p:cNvSpPr/>
            <p:nvPr/>
          </p:nvSpPr>
          <p:spPr>
            <a:xfrm>
              <a:off x="4595040" y="4131000"/>
              <a:ext cx="46872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Athil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40"/>
            <p:cNvSpPr/>
            <p:nvPr/>
          </p:nvSpPr>
          <p:spPr>
            <a:xfrm>
              <a:off x="7222320" y="4188240"/>
              <a:ext cx="9608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Athila </a:t>
              </a: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solo LT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9" name="AutoShape 41"/>
            <p:cNvCxnSpPr>
              <a:stCxn id="174" idx="2"/>
              <a:endCxn id="178" idx="0"/>
            </p:cNvCxnSpPr>
            <p:nvPr/>
          </p:nvCxnSpPr>
          <p:spPr>
            <a:xfrm flipH="1">
              <a:off x="7701840" y="4105440"/>
              <a:ext cx="3960" cy="7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Rectangle 42"/>
            <p:cNvSpPr/>
            <p:nvPr/>
          </p:nvSpPr>
          <p:spPr>
            <a:xfrm>
              <a:off x="1783440" y="4264920"/>
              <a:ext cx="4762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(AT)</a:t>
              </a:r>
              <a:r>
                <a:rPr b="0" lang="en-AU" sz="900" spc="-1" strike="noStrike" baseline="-25000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1" name="AutoShape 43"/>
            <p:cNvCxnSpPr>
              <a:stCxn id="167" idx="2"/>
              <a:endCxn id="180" idx="0"/>
            </p:cNvCxnSpPr>
            <p:nvPr/>
          </p:nvCxnSpPr>
          <p:spPr>
            <a:xfrm>
              <a:off x="2013120" y="4037040"/>
              <a:ext cx="8640" cy="226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82" name="Rectangle 44"/>
            <p:cNvSpPr/>
            <p:nvPr/>
          </p:nvSpPr>
          <p:spPr>
            <a:xfrm>
              <a:off x="4960080" y="4243320"/>
              <a:ext cx="5893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C/T-rich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reg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3" name="AutoShape 45"/>
            <p:cNvCxnSpPr>
              <a:stCxn id="173" idx="2"/>
              <a:endCxn id="182" idx="0"/>
            </p:cNvCxnSpPr>
            <p:nvPr/>
          </p:nvCxnSpPr>
          <p:spPr>
            <a:xfrm>
              <a:off x="5252760" y="4038480"/>
              <a:ext cx="396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84" name="Text Box 46"/>
            <p:cNvSpPr/>
            <p:nvPr/>
          </p:nvSpPr>
          <p:spPr>
            <a:xfrm>
              <a:off x="540720" y="3809880"/>
              <a:ext cx="6516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Repeat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47"/>
          <p:cNvGrpSpPr/>
          <p:nvPr/>
        </p:nvGrpSpPr>
        <p:grpSpPr>
          <a:xfrm>
            <a:off x="540360" y="4668840"/>
            <a:ext cx="7943760" cy="752400"/>
            <a:chOff x="540360" y="4668840"/>
            <a:chExt cx="7943760" cy="752400"/>
          </a:xfrm>
        </p:grpSpPr>
        <p:sp>
          <p:nvSpPr>
            <p:cNvPr id="186" name="Line 48"/>
            <p:cNvSpPr/>
            <p:nvPr/>
          </p:nvSpPr>
          <p:spPr>
            <a:xfrm>
              <a:off x="1209600" y="4940280"/>
              <a:ext cx="71262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49"/>
            <p:cNvSpPr/>
            <p:nvPr/>
          </p:nvSpPr>
          <p:spPr>
            <a:xfrm>
              <a:off x="1244520" y="4807080"/>
              <a:ext cx="158760" cy="287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50"/>
            <p:cNvSpPr/>
            <p:nvPr/>
          </p:nvSpPr>
          <p:spPr>
            <a:xfrm rot="10800000">
              <a:off x="1455480" y="4816440"/>
              <a:ext cx="331560" cy="28728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51"/>
            <p:cNvSpPr/>
            <p:nvPr/>
          </p:nvSpPr>
          <p:spPr>
            <a:xfrm rot="10800000">
              <a:off x="2073240" y="4816440"/>
              <a:ext cx="216000" cy="2872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52"/>
            <p:cNvSpPr/>
            <p:nvPr/>
          </p:nvSpPr>
          <p:spPr>
            <a:xfrm>
              <a:off x="2408400" y="4800600"/>
              <a:ext cx="287280" cy="2872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AutoShape 53"/>
            <p:cNvSpPr/>
            <p:nvPr/>
          </p:nvSpPr>
          <p:spPr>
            <a:xfrm rot="10800000">
              <a:off x="2719080" y="4819680"/>
              <a:ext cx="323640" cy="287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54"/>
            <p:cNvSpPr/>
            <p:nvPr/>
          </p:nvSpPr>
          <p:spPr>
            <a:xfrm>
              <a:off x="3063960" y="4803840"/>
              <a:ext cx="36360" cy="2872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AutoShape 55"/>
            <p:cNvSpPr/>
            <p:nvPr/>
          </p:nvSpPr>
          <p:spPr>
            <a:xfrm rot="10800000">
              <a:off x="3112560" y="4819680"/>
              <a:ext cx="173160" cy="287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56"/>
            <p:cNvSpPr/>
            <p:nvPr/>
          </p:nvSpPr>
          <p:spPr>
            <a:xfrm rot="10800000">
              <a:off x="3914640" y="4819680"/>
              <a:ext cx="68400" cy="2872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57"/>
            <p:cNvSpPr/>
            <p:nvPr/>
          </p:nvSpPr>
          <p:spPr>
            <a:xfrm rot="10800000">
              <a:off x="4067280" y="4819680"/>
              <a:ext cx="280800" cy="2872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58"/>
            <p:cNvSpPr/>
            <p:nvPr/>
          </p:nvSpPr>
          <p:spPr>
            <a:xfrm rot="10800000">
              <a:off x="4430880" y="4819680"/>
              <a:ext cx="85680" cy="2872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utoShape 59"/>
            <p:cNvSpPr/>
            <p:nvPr/>
          </p:nvSpPr>
          <p:spPr>
            <a:xfrm>
              <a:off x="5272200" y="4799160"/>
              <a:ext cx="223560" cy="2872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AutoShape 60"/>
            <p:cNvSpPr/>
            <p:nvPr/>
          </p:nvSpPr>
          <p:spPr>
            <a:xfrm rot="10800000">
              <a:off x="5527800" y="4816440"/>
              <a:ext cx="295200" cy="287280"/>
            </a:xfrm>
            <a:custGeom>
              <a:avLst/>
              <a:gdLst>
                <a:gd name="textAreaLeft" fmla="*/ 0 w 295200"/>
                <a:gd name="textAreaRight" fmla="*/ 295200 w 2952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AutoShape 61"/>
            <p:cNvSpPr/>
            <p:nvPr/>
          </p:nvSpPr>
          <p:spPr>
            <a:xfrm rot="10800000">
              <a:off x="5872320" y="4816440"/>
              <a:ext cx="1690560" cy="287280"/>
            </a:xfrm>
            <a:custGeom>
              <a:avLst/>
              <a:gdLst>
                <a:gd name="textAreaLeft" fmla="*/ 0 w 1690560"/>
                <a:gd name="textAreaRight" fmla="*/ 1690920 w 1690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AutoShape 62"/>
            <p:cNvSpPr/>
            <p:nvPr/>
          </p:nvSpPr>
          <p:spPr>
            <a:xfrm>
              <a:off x="8032680" y="4800600"/>
              <a:ext cx="258840" cy="2872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63"/>
            <p:cNvSpPr/>
            <p:nvPr/>
          </p:nvSpPr>
          <p:spPr>
            <a:xfrm rot="10800000">
              <a:off x="2755440" y="4668840"/>
              <a:ext cx="71640" cy="287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64"/>
            <p:cNvSpPr/>
            <p:nvPr/>
          </p:nvSpPr>
          <p:spPr>
            <a:xfrm>
              <a:off x="6878520" y="5259240"/>
              <a:ext cx="216000" cy="1447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7047720" y="5211720"/>
              <a:ext cx="14364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Predicted genic reg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66"/>
            <p:cNvSpPr/>
            <p:nvPr/>
          </p:nvSpPr>
          <p:spPr>
            <a:xfrm>
              <a:off x="540360" y="4815000"/>
              <a:ext cx="5540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Gen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DA107-3A54-41CD-B2E5-591F149925D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CMap3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55760" y="1598760"/>
            <a:ext cx="80373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t">
            <a:noAutofit/>
          </a:bodyPr>
          <a:p>
            <a:pPr lvl="1" marL="539640" indent="-19368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inding the genes for the tra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9368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tegration of genetic data with genomic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1587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apping of QTL regions to genom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734080"/>
            <a:ext cx="6659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algn="ctr">
              <a:lnSpc>
                <a:spcPct val="87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AU" sz="1300" spc="-1" strike="noStrike">
                <a:solidFill>
                  <a:srgbClr val="000000"/>
                </a:solidFill>
                <a:latin typeface="Arial"/>
                <a:ea typeface="Arial"/>
              </a:rPr>
              <a:t>Annot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396720" y="3851280"/>
            <a:ext cx="792036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2DD15-12BE-4C6F-A54D-F12486C182D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From genetic to physical ma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500040" y="2214720"/>
            <a:ext cx="7286760" cy="142560"/>
          </a:xfrm>
          <a:prstGeom prst="rect">
            <a:avLst/>
          </a:prstGeom>
          <a:solidFill>
            <a:srgbClr val="a6a6a6"/>
          </a:solidFill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ight Arrow 11"/>
          <p:cNvSpPr/>
          <p:nvPr/>
        </p:nvSpPr>
        <p:spPr>
          <a:xfrm>
            <a:off x="6429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ight Arrow 12"/>
          <p:cNvSpPr/>
          <p:nvPr/>
        </p:nvSpPr>
        <p:spPr>
          <a:xfrm flipH="1">
            <a:off x="9993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ight Arrow 13"/>
          <p:cNvSpPr/>
          <p:nvPr/>
        </p:nvSpPr>
        <p:spPr>
          <a:xfrm>
            <a:off x="642924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ight Arrow 14"/>
          <p:cNvSpPr/>
          <p:nvPr/>
        </p:nvSpPr>
        <p:spPr>
          <a:xfrm flipH="1">
            <a:off x="32853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85716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7" descr="matches.png"/>
          <p:cNvPicPr/>
          <p:nvPr/>
        </p:nvPicPr>
        <p:blipFill>
          <a:blip r:embed="rId1"/>
          <a:stretch/>
        </p:blipFill>
        <p:spPr>
          <a:xfrm>
            <a:off x="928800" y="2957400"/>
            <a:ext cx="7358040" cy="2971800"/>
          </a:xfrm>
          <a:prstGeom prst="rect">
            <a:avLst/>
          </a:prstGeom>
          <a:ln w="0">
            <a:noFill/>
          </a:ln>
        </p:spPr>
      </p:pic>
      <p:sp>
        <p:nvSpPr>
          <p:cNvPr id="219" name="Right Arrow 18"/>
          <p:cNvSpPr/>
          <p:nvPr/>
        </p:nvSpPr>
        <p:spPr>
          <a:xfrm flipH="1">
            <a:off x="14281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ight Arrow 19"/>
          <p:cNvSpPr/>
          <p:nvPr/>
        </p:nvSpPr>
        <p:spPr>
          <a:xfrm>
            <a:off x="17859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ight Arrow 20"/>
          <p:cNvSpPr/>
          <p:nvPr/>
        </p:nvSpPr>
        <p:spPr>
          <a:xfrm flipH="1">
            <a:off x="17852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ight Arrow 21"/>
          <p:cNvSpPr/>
          <p:nvPr/>
        </p:nvSpPr>
        <p:spPr>
          <a:xfrm>
            <a:off x="22147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ight Arrow 23"/>
          <p:cNvSpPr/>
          <p:nvPr/>
        </p:nvSpPr>
        <p:spPr>
          <a:xfrm flipH="1">
            <a:off x="27853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ight Arrow 24"/>
          <p:cNvSpPr/>
          <p:nvPr/>
        </p:nvSpPr>
        <p:spPr>
          <a:xfrm>
            <a:off x="300024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ight Arrow 25"/>
          <p:cNvSpPr/>
          <p:nvPr/>
        </p:nvSpPr>
        <p:spPr>
          <a:xfrm flipH="1">
            <a:off x="5857200" y="257184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ight Arrow 28"/>
          <p:cNvSpPr/>
          <p:nvPr/>
        </p:nvSpPr>
        <p:spPr>
          <a:xfrm>
            <a:off x="38577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ight Arrow 29"/>
          <p:cNvSpPr/>
          <p:nvPr/>
        </p:nvSpPr>
        <p:spPr>
          <a:xfrm flipH="1">
            <a:off x="42141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0"/>
          <p:cNvSpPr/>
          <p:nvPr/>
        </p:nvSpPr>
        <p:spPr>
          <a:xfrm>
            <a:off x="407196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ight Arrow 31"/>
          <p:cNvSpPr/>
          <p:nvPr/>
        </p:nvSpPr>
        <p:spPr>
          <a:xfrm flipH="1">
            <a:off x="450000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ight Arrow 32"/>
          <p:cNvSpPr/>
          <p:nvPr/>
        </p:nvSpPr>
        <p:spPr>
          <a:xfrm>
            <a:off x="47149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ight Arrow 33"/>
          <p:cNvSpPr/>
          <p:nvPr/>
        </p:nvSpPr>
        <p:spPr>
          <a:xfrm flipH="1">
            <a:off x="50000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ight Arrow 34"/>
          <p:cNvSpPr/>
          <p:nvPr/>
        </p:nvSpPr>
        <p:spPr>
          <a:xfrm>
            <a:off x="507204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ight Arrow 35"/>
          <p:cNvSpPr/>
          <p:nvPr/>
        </p:nvSpPr>
        <p:spPr>
          <a:xfrm flipH="1">
            <a:off x="5429160" y="242892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36"/>
          <p:cNvSpPr/>
          <p:nvPr/>
        </p:nvSpPr>
        <p:spPr>
          <a:xfrm>
            <a:off x="528624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ight Arrow 37"/>
          <p:cNvSpPr/>
          <p:nvPr/>
        </p:nvSpPr>
        <p:spPr>
          <a:xfrm flipH="1">
            <a:off x="571428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ight Arrow 38"/>
          <p:cNvSpPr/>
          <p:nvPr/>
        </p:nvSpPr>
        <p:spPr>
          <a:xfrm>
            <a:off x="58579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ight Arrow 39"/>
          <p:cNvSpPr/>
          <p:nvPr/>
        </p:nvSpPr>
        <p:spPr>
          <a:xfrm flipH="1">
            <a:off x="62143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607212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ight Arrow 41"/>
          <p:cNvSpPr/>
          <p:nvPr/>
        </p:nvSpPr>
        <p:spPr>
          <a:xfrm flipH="1">
            <a:off x="664308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ight Arrow 42"/>
          <p:cNvSpPr/>
          <p:nvPr/>
        </p:nvSpPr>
        <p:spPr>
          <a:xfrm>
            <a:off x="692928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ight Arrow 43"/>
          <p:cNvSpPr/>
          <p:nvPr/>
        </p:nvSpPr>
        <p:spPr>
          <a:xfrm flipH="1">
            <a:off x="72860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44"/>
          <p:cNvSpPr/>
          <p:nvPr/>
        </p:nvSpPr>
        <p:spPr>
          <a:xfrm>
            <a:off x="714384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ight Arrow 45"/>
          <p:cNvSpPr/>
          <p:nvPr/>
        </p:nvSpPr>
        <p:spPr>
          <a:xfrm flipH="1">
            <a:off x="7428960" y="257184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ight Arrow 46"/>
          <p:cNvSpPr/>
          <p:nvPr/>
        </p:nvSpPr>
        <p:spPr>
          <a:xfrm>
            <a:off x="2357280" y="192888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ight Arrow 47"/>
          <p:cNvSpPr/>
          <p:nvPr/>
        </p:nvSpPr>
        <p:spPr>
          <a:xfrm>
            <a:off x="3714840" y="192888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46"/>
          <p:cNvSpPr/>
          <p:nvPr/>
        </p:nvSpPr>
        <p:spPr>
          <a:xfrm>
            <a:off x="7769160" y="2176560"/>
            <a:ext cx="11876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Arial"/>
              </a:rPr>
              <a:t>B. rapa 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caffo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traight Connector 50"/>
          <p:cNvSpPr/>
          <p:nvPr/>
        </p:nvSpPr>
        <p:spPr>
          <a:xfrm>
            <a:off x="7786800" y="2214720"/>
            <a:ext cx="1000080" cy="0"/>
          </a:xfrm>
          <a:prstGeom prst="line">
            <a:avLst/>
          </a:prstGeom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Straight Connector 51"/>
          <p:cNvSpPr/>
          <p:nvPr/>
        </p:nvSpPr>
        <p:spPr>
          <a:xfrm>
            <a:off x="7786800" y="2357280"/>
            <a:ext cx="1000080" cy="0"/>
          </a:xfrm>
          <a:prstGeom prst="line">
            <a:avLst/>
          </a:prstGeom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785880" y="6000840"/>
            <a:ext cx="764388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Ordered subset of SOAP2 output, with matching primer pairs highligh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Straight Connector 59"/>
          <p:cNvSpPr/>
          <p:nvPr/>
        </p:nvSpPr>
        <p:spPr>
          <a:xfrm>
            <a:off x="500040" y="228600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traight Connector 60"/>
          <p:cNvSpPr/>
          <p:nvPr/>
        </p:nvSpPr>
        <p:spPr>
          <a:xfrm>
            <a:off x="7786800" y="228600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61"/>
          <p:cNvSpPr/>
          <p:nvPr/>
        </p:nvSpPr>
        <p:spPr>
          <a:xfrm>
            <a:off x="142920" y="2657520"/>
            <a:ext cx="714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14488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62"/>
          <p:cNvSpPr/>
          <p:nvPr/>
        </p:nvSpPr>
        <p:spPr>
          <a:xfrm>
            <a:off x="7429680" y="2657520"/>
            <a:ext cx="714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3546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CMap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Content Placeholder 4" descr="CMap3D.PNG"/>
          <p:cNvPicPr/>
          <p:nvPr/>
        </p:nvPicPr>
        <p:blipFill>
          <a:blip r:embed="rId1"/>
          <a:stretch/>
        </p:blipFill>
        <p:spPr>
          <a:xfrm>
            <a:off x="71280" y="1312920"/>
            <a:ext cx="8859960" cy="575928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75126-7150-416C-AA71-619BDBD83C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CMap3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CF8C6-1060-42D5-BBA9-23877CC877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68400" y="1312920"/>
            <a:ext cx="886140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Brassica C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3 map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18 linkage grou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899 mar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E1FE6-8CE1-406E-905F-16F8CC027E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FFF39-9DFC-481A-B0F9-642CDFFAE2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457200" y="1600200"/>
            <a:ext cx="822960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a lot of useful things you can do with short paired read sequenc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CMap3D to link Brassica genetics and genom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ls available at: http://flora.acpfg.com.a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or type ACPFG bioinformatics into Goog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3CFCA-EB3D-47CB-B334-88839207EE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68360" y="2205000"/>
            <a:ext cx="8461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 and promoter discovery: TAG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ome sequencing and an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 genetic and genomic data using CMap3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" descr=""/>
          <p:cNvPicPr/>
          <p:nvPr/>
        </p:nvPicPr>
        <p:blipFill>
          <a:blip r:embed="rId1"/>
          <a:srcRect l="0" t="0" r="56358" b="0"/>
          <a:stretch/>
        </p:blipFill>
        <p:spPr>
          <a:xfrm>
            <a:off x="6753240" y="4540320"/>
            <a:ext cx="2449440" cy="1103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"/>
          <a:srcRect l="0" t="0" r="68845" b="0"/>
          <a:stretch/>
        </p:blipFill>
        <p:spPr>
          <a:xfrm>
            <a:off x="34920" y="476280"/>
            <a:ext cx="2521080" cy="7030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959280" y="1440000"/>
            <a:ext cx="25560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ul Berkm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ren Brag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ry Cl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minic E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 Pyo H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Imelf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mund 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gan McKenz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ri Sti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David Edw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3"/>
          <a:stretch/>
        </p:blipFill>
        <p:spPr>
          <a:xfrm>
            <a:off x="4179960" y="5859360"/>
            <a:ext cx="2054160" cy="316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4"/>
          <a:stretch/>
        </p:blipFill>
        <p:spPr>
          <a:xfrm>
            <a:off x="250920" y="1500120"/>
            <a:ext cx="1873080" cy="1325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5"/>
          <a:stretch/>
        </p:blipFill>
        <p:spPr>
          <a:xfrm>
            <a:off x="1027080" y="3052800"/>
            <a:ext cx="2033640" cy="12668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8"/>
          <p:cNvSpPr/>
          <p:nvPr/>
        </p:nvSpPr>
        <p:spPr>
          <a:xfrm>
            <a:off x="6659640" y="5400720"/>
            <a:ext cx="341316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niel Marsh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kki Apple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ng Zh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ran Boskov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Object 9"/>
          <p:cNvGraphicFramePr/>
          <p:nvPr/>
        </p:nvGraphicFramePr>
        <p:xfrm>
          <a:off x="2143080" y="4645080"/>
          <a:ext cx="1428840" cy="143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6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3080" y="4645080"/>
                    <a:ext cx="142884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Picture 10" descr=""/>
          <p:cNvPicPr/>
          <p:nvPr/>
        </p:nvPicPr>
        <p:blipFill>
          <a:blip r:embed="rId8"/>
          <a:stretch/>
        </p:blipFill>
        <p:spPr>
          <a:xfrm>
            <a:off x="6786720" y="3720960"/>
            <a:ext cx="1800000" cy="984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"/>
          <p:cNvPicPr/>
          <p:nvPr/>
        </p:nvPicPr>
        <p:blipFill>
          <a:blip r:embed="rId9"/>
          <a:stretch/>
        </p:blipFill>
        <p:spPr>
          <a:xfrm>
            <a:off x="455760" y="5213520"/>
            <a:ext cx="1125360" cy="9460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2"/>
          <p:cNvSpPr/>
          <p:nvPr/>
        </p:nvSpPr>
        <p:spPr>
          <a:xfrm>
            <a:off x="6659640" y="1440000"/>
            <a:ext cx="2484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Jacqueline Bat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iaowu W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sh Ra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Kaye Basf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13" descr=""/>
          <p:cNvPicPr/>
          <p:nvPr/>
        </p:nvPicPr>
        <p:blipFill>
          <a:blip r:embed="rId10"/>
          <a:stretch/>
        </p:blipFill>
        <p:spPr>
          <a:xfrm>
            <a:off x="2081160" y="6323040"/>
            <a:ext cx="1548000" cy="463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"/>
          <p:cNvPicPr/>
          <p:nvPr/>
        </p:nvPicPr>
        <p:blipFill>
          <a:blip r:embed="rId11"/>
          <a:stretch/>
        </p:blipFill>
        <p:spPr>
          <a:xfrm>
            <a:off x="4191120" y="6286680"/>
            <a:ext cx="116676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ired-end short rea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"/>
          <p:cNvSpPr/>
          <p:nvPr/>
        </p:nvSpPr>
        <p:spPr>
          <a:xfrm>
            <a:off x="5943600" y="2154240"/>
            <a:ext cx="1143000" cy="936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 flipH="1">
            <a:off x="2044440" y="2163600"/>
            <a:ext cx="1168200" cy="180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3200400" y="2154240"/>
            <a:ext cx="27432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948120" y="2241720"/>
            <a:ext cx="1828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2708280"/>
            <a:ext cx="82296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llumina GAI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length (35bp – 75b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ert size up to 10K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~ Normal dis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tandard deviation ~ 10% m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 finding and exten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2"/>
          <p:cNvSpPr/>
          <p:nvPr/>
        </p:nvSpPr>
        <p:spPr>
          <a:xfrm>
            <a:off x="2498760" y="3157560"/>
            <a:ext cx="411480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 flipH="1">
            <a:off x="1112400" y="2700360"/>
            <a:ext cx="574920" cy="936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2955960" y="2700360"/>
            <a:ext cx="549360" cy="936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7435800" y="2700360"/>
            <a:ext cx="549360" cy="936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 flipH="1">
            <a:off x="5457960" y="26906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870360" y="3386160"/>
            <a:ext cx="1371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/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 flipH="1">
            <a:off x="3400560" y="29192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5699160" y="2919240"/>
            <a:ext cx="5493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H="1">
            <a:off x="885960" y="24620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727360" y="2462040"/>
            <a:ext cx="5493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 flipH="1">
            <a:off x="1114200" y="2919240"/>
            <a:ext cx="253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1008000" y="1865160"/>
            <a:ext cx="852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4"/>
          <p:cNvSpPr/>
          <p:nvPr/>
        </p:nvSpPr>
        <p:spPr>
          <a:xfrm>
            <a:off x="669960" y="223344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1127160" y="4062240"/>
            <a:ext cx="204840" cy="6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1355760" y="4748040"/>
            <a:ext cx="6400800" cy="22860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3508200" y="5016600"/>
            <a:ext cx="320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omic sequ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2498760" y="360504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>
            <a:off x="6613560" y="360504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709560" y="3646440"/>
            <a:ext cx="852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3252960" y="5816520"/>
            <a:ext cx="318960" cy="2160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2295360" y="5767560"/>
            <a:ext cx="944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23"/>
          <p:cNvSpPr/>
          <p:nvPr/>
        </p:nvSpPr>
        <p:spPr>
          <a:xfrm>
            <a:off x="5724360" y="5821200"/>
            <a:ext cx="319320" cy="21600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4543560" y="5784840"/>
            <a:ext cx="1171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25"/>
          <p:cNvSpPr/>
          <p:nvPr/>
        </p:nvSpPr>
        <p:spPr>
          <a:xfrm flipH="1">
            <a:off x="6162840" y="592596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2111400" y="6058080"/>
            <a:ext cx="153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rabidops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4444920" y="6046920"/>
            <a:ext cx="1370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rassic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Gd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17215" t="19127" r="18281" b="12584"/>
          <a:stretch/>
        </p:blipFill>
        <p:spPr>
          <a:xfrm>
            <a:off x="949320" y="1606680"/>
            <a:ext cx="7389720" cy="4889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87200" y="6526080"/>
            <a:ext cx="8748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flora.acpfg.com.au/tagdb/cgi-bin/results?jobID=bK85Lk10fVzMlw5e33FSuYBY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xample: AtWD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71" descr="primers_a.PNG"/>
          <p:cNvPicPr/>
          <p:nvPr/>
        </p:nvPicPr>
        <p:blipFill>
          <a:blip r:embed="rId1"/>
          <a:stretch/>
        </p:blipFill>
        <p:spPr>
          <a:xfrm>
            <a:off x="285840" y="1911240"/>
            <a:ext cx="857232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xample: AtWD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5" descr="primers_b.PNG"/>
          <p:cNvPicPr/>
          <p:nvPr/>
        </p:nvPicPr>
        <p:blipFill>
          <a:blip r:embed="rId1"/>
          <a:stretch/>
        </p:blipFill>
        <p:spPr>
          <a:xfrm>
            <a:off x="231840" y="1857240"/>
            <a:ext cx="862632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D56EC-79F8-4B5A-A508-9F62887E19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68360" y="184464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rap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5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olerace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nigr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a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.3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at 7D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4.2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arle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.9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Pongami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0.45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Nicotian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0.2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9:03:12Z</dcterms:created>
  <dc:creator>Bob</dc:creator>
  <dc:description/>
  <dc:language>en-US</dc:language>
  <cp:lastModifiedBy>GMOD / NESCent</cp:lastModifiedBy>
  <cp:lastPrinted>2009-04-22T19:24:48Z</cp:lastPrinted>
  <dcterms:modified xsi:type="dcterms:W3CDTF">2010-01-21T18:16:17Z</dcterms:modified>
  <cp:revision>178</cp:revision>
  <dc:subject/>
  <dc:title>Main Title</dc:title>
</cp:coreProperties>
</file>